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0EB9-AD19-4670-9F04-48C93601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05A-CE74-4137-95D7-205236DC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3B8-5524-46E2-9450-914C411D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717-9C61-4790-B362-BD6195FB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D2CE-1655-40F6-BA4A-74769667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493-91EF-4C5C-952A-AD68F478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CB0-345C-464B-9C29-EBF4F36D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017-B6A3-4E55-95BE-8CCA7A72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0A6-8FE5-4E7D-8450-456466A2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D23-0809-4F7E-A279-3F902554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542-576E-4713-8E85-A734C936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B7C-9C01-4273-BF70-31D896D8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5B8A-72DF-4A06-B385-07F7FAA6336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otoni, elektroni i nabo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Električni naboji u baterij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bateriji su se naboji, zbog kemijskog djelovanja, razdvoji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toga jedan priključak baterije ima pozitivan naboj (+), a drugi negativan (-) naboj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052280"/>
            <a:ext cx="4186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vari su građene od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atom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tomi se sastoje od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jezgr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koju čin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ton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utron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te tzv.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lektronskog omotač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u kojem su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lektron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5364000" y="2276640"/>
            <a:ext cx="271620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lektrični naboj elektrona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je najmanji naboj dosad otkriven u prirodi, pa ga naziva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lementarn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(osnovni)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aboj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električki neutralnom atomu nalazi se jednak broj elektrona u omotaču, kao i protona u jezg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zitivan naboj protona (e) jednak je po iznosu negativnom naboju elektrona (-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toga su atomi, a time i od njih načinjena tijela električki neutraln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tomi koji imaju višak ili manjak elektrona nazivamo pozitivnim ili negativnim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onim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Čestice koje trljanjem prelaze s tijela na tijelo su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lektron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što plastični predmet postane negativno, a vunena krpica pozitivno elektrizira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dogodi kada elektriziramo stakleni predm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ijela se elektriziraju premještanjem slobodnih, pokretljivih elektr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eđudjelovanje elektriziranih i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eutralnih tije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što balon privlači električki neutralne papirić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djeluje električna si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SnapShot(78).jpg"/>
          <p:cNvPicPr/>
          <p:nvPr/>
        </p:nvPicPr>
        <p:blipFill>
          <a:blip r:embed="rId4"/>
          <a:srcRect l="39373" t="0" r="4462" b="0"/>
          <a:stretch/>
        </p:blipFill>
        <p:spPr>
          <a:xfrm>
            <a:off x="4716360" y="1773360"/>
            <a:ext cx="34671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ko se tijela privlače, barem je jedno elektrizira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ko se tijela odbijaju, tada su oba elektrizirana istim naboj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74.jpg"/>
          <p:cNvPicPr/>
          <p:nvPr/>
        </p:nvPicPr>
        <p:blipFill>
          <a:blip r:embed="rId3"/>
          <a:stretch/>
        </p:blipFill>
        <p:spPr>
          <a:xfrm>
            <a:off x="5364000" y="2060640"/>
            <a:ext cx="2880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pokazati je li neko tijelo elektriziran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lektroskop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je naprava kojom možemo utvrditi je li neko tijelo elektrizira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SnapShot(221).jpg"/>
          <p:cNvPicPr/>
          <p:nvPr/>
        </p:nvPicPr>
        <p:blipFill>
          <a:blip r:embed="rId3"/>
          <a:srcRect l="29528" t="0" r="29528" b="0"/>
          <a:stretch/>
        </p:blipFill>
        <p:spPr>
          <a:xfrm>
            <a:off x="5076720" y="1628640"/>
            <a:ext cx="31449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naboj prenesemo s elektriziranog tijela na kuglicu elektroskopa, on se rasporedi po metalnom štapu i listiću. Listić se otkloni zbog odbojne električne sile između nje i metalnog štap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SnapShot(219).jpg"/>
          <p:cNvPicPr/>
          <p:nvPr/>
        </p:nvPicPr>
        <p:blipFill>
          <a:blip r:embed="rId2"/>
          <a:srcRect l="29528" t="0" r="29528" b="0"/>
          <a:stretch/>
        </p:blipFill>
        <p:spPr>
          <a:xfrm>
            <a:off x="5076720" y="1628640"/>
            <a:ext cx="31449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4:30:37Z</dcterms:created>
  <dc:creator>Zdenka</dc:creator>
  <dc:description/>
  <dc:language>en-US</dc:language>
  <cp:lastModifiedBy>Zdenko</cp:lastModifiedBy>
  <dcterms:modified xsi:type="dcterms:W3CDTF">2014-07-18T09:22:48Z</dcterms:modified>
  <cp:revision>52</cp:revision>
  <dc:subject/>
  <dc:title>ELEKTRIČNI NABOJI I NJIHOVO MEĐUDJELOVANJE</dc:title>
</cp:coreProperties>
</file>